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7CF-C120-407D-94F4-51677AFD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9ED-96D2-453C-BE36-A9CAF22B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5E1-93B5-42DA-B850-3E33D728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324-0783-4AD7-9C7D-34F94046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75B-7755-43A6-9F03-6777C865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F94-165B-4CAB-89FE-9F1349EB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65F-3D9F-47C9-813E-11A95D8A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C00-11E3-4C66-882A-694D06EB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3C9-F155-4BF1-9577-9AAE1F4B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3C82-E250-4290-98E6-B52560F9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CCB-61A0-40F6-8A42-A197DE78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3A7-2231-4D37-A739-7930E5B9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3249-FB20-4497-A4CD-786B97F40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a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Vaugh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my slide 2. My name is Vaugh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825640" cy="2869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86200" y="2620800"/>
            <a:ext cx="5257800" cy="423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4724280"/>
            <a:ext cx="365760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66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at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s can sometimes be a friend to you. They are cu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413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78035E-007 C -0.23229 0.18636 -0.46458 0.37272 -0.44444 0.28139 C -0.4243 0.19006 0.14983 -0.45387 0.12066 -0.54728 C 0.0915 -0.64069 -0.58715 -0.42636 -0.61892 -0.27884 C -0.65069 -0.13156 -0.12899 0.31861 -0.06996 0.33619 C -0.01094 0.35376 -0.2816 -0.10913 -0.26493 -0.17341 C -0.24826 -0.23722 -0.02187 -0.07098 0.03021 -0.04855 C 0.08195 -0.02613 0.0434 -0.04 0.04618 -0.03792 E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54620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76520" y="1522440"/>
            <a:ext cx="2914560" cy="175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3:32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42Z</dcterms:modified>
  <cp:revision>10</cp:revision>
  <dc:subject/>
  <dc:title>Big cat</dc:title>
</cp:coreProperties>
</file>